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C8F4-E986-4FE5-A8D8-D1C985A35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EEBB-3C1A-4C5E-B0F5-7F9038C6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56E8-D764-4007-8896-B24816887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614E-780F-40E6-A011-C924CDB17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A1CA-B1C3-4920-BB08-70D4BFD72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8731-D3F9-4543-9302-57A1D211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FC35-D79C-4FE9-98BA-942E734E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FFE3-8B82-4ED5-9A7C-C118F654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9620-8E00-4529-A435-5DE56249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F85B-4DC6-4DF4-A4F6-761244BF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3654-71EF-4C82-BA44-C05E1120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63F0-B069-48C5-9CCC-F364D07B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4B45-054A-4188-8A65-BA39AAD5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C078-BAFD-4822-BA87-1D1701BF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0EBB-7BC6-499B-864A-A88DBF49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F3DF-D498-4A1D-B659-921DBB5D8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0599-BA23-4CDF-B8CF-30A505A1C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F6D6-DDC0-4BB3-A5EA-BEDB022D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2385-E631-4F19-8108-2009C386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506D-98ED-43F4-9540-CA7C5CEB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EFFF-92A3-4005-9381-30F6B2B8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D7DD-22A5-4CA4-BCDF-A3253B30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8B84-20E7-44C2-8DCB-84831DB5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76C2-77EE-427F-9300-1F7F5E7D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2465-A029-4F26-8A7C-1AAEEBB13A0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F5CC-FC1F-4EF8-B85E-867A12FDB91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Independent Reading 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a “Just Right” book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352680" y="4495680"/>
            <a:ext cx="183384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t shouldn’t be too eas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likes dogs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762520" y="3549600"/>
            <a:ext cx="185112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t shouldn’t be too har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quality of mercy is not strain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998880" y="2517840"/>
            <a:ext cx="114624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Here is what you need to ask yourself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657600" y="2286000"/>
            <a:ext cx="1905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s the book new to me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I read this before or have I seen a movie about this book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o I understand a lot of the book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should understand what you are reading and be able to follow the sto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ord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there less than 5 words on a page you don’t know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fusing words&lt;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010280" y="3886200"/>
            <a:ext cx="152100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halleng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it challenging sometim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 far I understand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ne question I have is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 don’t understand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09:03:52Z</dcterms:created>
  <dc:creator>john.arunski</dc:creator>
  <dc:description/>
  <dc:language>en-US</dc:language>
  <cp:lastModifiedBy>john.arunski</cp:lastModifiedBy>
  <dcterms:modified xsi:type="dcterms:W3CDTF">2010-08-26T04:34:52Z</dcterms:modified>
  <cp:revision>3</cp:revision>
  <dc:subject/>
  <dc:title>Independent Reading </dc:title>
</cp:coreProperties>
</file>